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AAB6-45C4-4934-A73F-AB7FBD309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3054-11B0-4D53-947F-863C3BF20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7EA1-803E-41FD-B470-5BD8B3ADE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9023-0089-49D1-9653-8D12F1779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A8FF-4B1E-439C-8AE8-D34E57FB0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DEE6-9668-4AA5-9577-3DBC6D0E2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04E8-A079-49ED-937C-D6E572D8F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F320-E521-4229-ACED-A7410B34E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D741-34E7-475E-8038-89C079ED5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DF6A-5245-40DA-8F1D-5801D10E0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3101-F22C-43BC-96BD-5D22D6947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3655-5D6E-466B-BAF2-A77241F23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6A2EC-DF74-4B90-BDDE-3BF78F6CC3B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00:59:46Z</dcterms:created>
  <dc:creator>Administrator</dc:creator>
  <dc:description/>
  <dc:language>en-US</dc:language>
  <cp:lastModifiedBy>Administrator</cp:lastModifiedBy>
  <dcterms:modified xsi:type="dcterms:W3CDTF">2015-04-21T01:00:09Z</dcterms:modified>
  <cp:revision>1</cp:revision>
  <dc:subject/>
  <dc:title/>
</cp:coreProperties>
</file>